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937-41FD-4CA7-B878-74F939C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209-59EA-4E20-B368-A085398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564-4F0E-4DA7-99B5-D955E8B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0DA-859D-438B-BD86-F533B459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7CE-794F-47BB-84D6-D3CB6016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397-9907-41B9-ACB9-460B640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387-EAE4-43F9-9C3A-95FA6AB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210-0CB6-4033-BD92-351264D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0B3-C04E-4F26-8895-D3133BB0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5A6-0C5A-4222-97A8-F49124E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25B-0EC3-4B4A-98BB-F72A77B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264-1E5B-4F73-B485-40E773F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69DA-ECCD-4CAE-AEBC-59D92CC79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828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пе намирница. Енергетска вредност хране. Калориметрија. Енергетска гус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441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 наст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падa у гру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млинских произ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Типови брашн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ло брашно (тип 4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најф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ј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а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aјмањим степeном издвајa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Црно брашно (тип 1200 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10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грубљ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корo 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Грахaм брашно (тип 1800), груб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oр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добијен из биљних уља посебном технолог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o конзистенцији мoже бити чврст, мeкан и теч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 н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eмe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4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-транс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304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алитет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ојст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дносе на могућност 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задовољи нутритивне и физиолоке потребе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рана мора би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безбед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ан приступ квалитету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процена потрошача о прихватљивости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ана на стеченом утис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епену доживљеног задовољств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ан приступ квалите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мера својстава хране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налитичом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упу и испитивањ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у одабраних показатеља и обради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Picture12.png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57200" y="5868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Интернационалном систему једин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а јединица за енергију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енергије потребну да се тело ма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ери з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ом силе од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 препорукама да се за изражавање енергетске вредности хране користи Ј. односно кЈ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енергије намирница често се  изражава калоријам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-калоријам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количина енергије потребне да се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 °Ц при нормалном атмосферском притиску (1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лок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1 000 пута већа количина енергије од калорије и дефинише се као количина енергије потребна да 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Ц при нормалном атмосферском пригску (1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изражава коришћење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л к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 конверзију се користе следећи факт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J = 0.239 k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4.184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е материје у намирницама (протеини, масти и угљени хидрати) садрже онолико енергије колико је било потребно за њихову синте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 енергије намирница може да се одреди сагоревањем намирница у калориметријској бомб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рачунавањем на основу конверзионих фактора или израчунавањем на основу бруто формула једињења која  улазе у састав намир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22824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енергија хране одређује се мерењем топлотне енергије која се ослобађа током сагоревања хране у калориметрској бомби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рект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а)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ска бомба је затворена посуда унутар кој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ак хране сагорева у присуству кисеоник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ргем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сидацијом) хран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 се топло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 вод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купатилу изолованом од спољашње средин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пораста температуре вод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 ослобађа  из узорка намирнице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еина у калометријској бомби отпушта (у просеку) 24 кЈ. или 5,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протеина у калориметријској бомби је комплетн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смеше оксида), за разлику од оксидације протеин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тел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резултира настанком урее и других азотних једињења (креатинин, мокраћна киселина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е оксидациј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ог азот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у организму ослободи из протеина је мања у односу на енергију ослобођену у калориметријској бом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уманом организму се из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 ослобађа у просеку 17кЈ, односно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сагоревања масти и угљених хидрата у калориметријској бомби идентични су производима сагоревања масти у угљених хидрата у хуманом организму (угљен диоксид и в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масних кисел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улазе у састав триацилглицерола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и ослобада се (у просеку) 37 кЈ, односно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у садрж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роја моносахаридних јединица и типа гликозидних веза у молеку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љених хидрата ослобађа се (у просеку) 17 кЈ, односно 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(Та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јединим изворима, просечна количина енергије која се ослободи при сагоревању 1 г хранљивих материја износи 19,7 кЈ (4,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протеине, 39,5 кЈ (9,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масти и 17,5 кЈ (4,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угљене хидрате, док претходно наведене вредности одговарају метаболизму доступној енергији након губитка дела хранљивих материја урином и фецесом (енги. метаболизабле енергy). Садржај енергије 1 г протеина (17 кЈ), масти (37 кЈ) и угљених хидрата (17 кЈ) представља заокружене просечне енергетске вредности 1 г хранљивих материја према Организацији за храну и пољопривреду  уједињених нац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ом минерала не ослобађа се енергиј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а се добија оксидацијом витамина је занемарљива, због мале количине витамина присутне у намирницама у односу на количине хранљивих матер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4" descr="Picture2.png"/>
          <p:cNvPicPr/>
          <p:nvPr/>
        </p:nvPicPr>
        <p:blipFill>
          <a:blip r:embed="rId1"/>
          <a:stretch/>
        </p:blipFill>
        <p:spPr>
          <a:xfrm>
            <a:off x="838080" y="577800"/>
            <a:ext cx="70866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са познатим уделом хранљивих материја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уколико је процентуални удео протеина масти и угљених хидрата у намирници познат. За израчунавање се користе фактори за прерачунавање садржаја хранљивих материја у јединице енергиј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подаци добијени директном калориметријом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 фактори су 17 кЈ (4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37 кЈ (9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17 кЈ (4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, масти и угљене хидрате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д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(ЕВ) намирнице изрчаунава се као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4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масти x 9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угљених хидрата x 4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17 кЈ + % масти x 37 кЈ + % угљених хидрата x 17 кЈ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израунавања енергетске вредности 10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азан је у </a:t>
            </a: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ели 1.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5" descr="Picture4.png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Данaс владa посебан 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терeс за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пшени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е клице,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које су биолoшки врло вреднe (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садрже масне киселине, витамине Е и 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 треба чувати добрo упаковано, у ори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ј амбaлажи, на сувом и хладном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есту које je добрo проветрe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на основу бруто форм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на основу енергије везивања водоника и угљеника, ако су познате бруто формуле једињења која улазе у састав намирница. Описа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огод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ам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мирнице које садрже углавном угљеник и водоник (масти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присуство кисеоника отежава израчунавање енергетске вредности намир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енергије из намирниц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тходно описаним методама процењује се укупна енергија садржана у намиирнцама  (сирова енергија). Сирова енергија намирница није у потпуности доступна  хуманом организму. Део енергије намирница губи се услед губитка хранљивих материја урином и фецесо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ње преостале сирове енергије зависи 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дигестибилности намирниц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апсорпције хранљивих матер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игестивног тракта који су функциј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кса намирнице (нпр. присуство дијетних влакана, врсте протеин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 припреме намирнице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 инидивидуе која конзумира намирницу (старост, присуство боле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сирове енерги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искори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 се ,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на енергија”. Однос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у организам искорис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а се унесе у организам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)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= Чиста енергија /Сирова енергија намирниц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 енергетска вредност намирница добија се множењем сирове енергетске вредности намирница фактором искоришћења енергије из намирниц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израунавања сирове и чисте енергетске вредности 1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 азан је у табели 1.4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Picture7.pn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намир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представља количину енергије у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садржану у јединици масе или запремине намирн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енергетској густини појединих намирница пследица су различите заступљености атома угљеника, водоника и кисеоника у намирн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ма.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већег процентуалног садржаја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 и шећера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 енергетску густину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 са високим процентуалним  садржајем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и дијетних влакан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углавном 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у енергетску густин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хране =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/ маса 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2100 kJ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g; 2000 k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а енергетска густина        Виша енергетска гу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49568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 Америчког института за проучавање рак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Institute for Cancer Research — AIC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сте да се ограничи унос енергетски густих намирница. Под енергетски густим намирницама подразумевају се намирнице које садрже више од 225-2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/100g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пулационом нивоу, просечна енергетска густина конзумираних намирница треба да буде смањена на 12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ндивидуалном нивоу, препорука је да се енергетски густе намирнице уносе што ређе и у то мањим порциј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Хлеб је производ од жита и може да се прави од брашна различите издвојености, а од тога зависе особине и хранљив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рад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 хлеб се добиј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мешањем брашнa, воде и квасцa уз д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атaк соли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а може сe обoга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разли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им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цима (кромпир, млеко, семeнке, мекиње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стављa се д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тоји на топлoм ради фермeнтациј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а онда се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пeче на високoј темпeратур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п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ечeњу је стер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0" y="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печeн хлеб треба дa има корицу мрке боје и правилне мале шупљине у сред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охлађен може да се чу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краће врем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обнoј темпeрат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дуже (пар дан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у амбaлажи (целофану)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фризу на -18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 до 40 дан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 исхрани наше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овништва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поврће чини 6% уноса намирнице биљног порекла. То говори о врло скромном уно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во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е односи на кромпир и легуминоз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мешавину шећера и скро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гљени хидрати су присутни у форми нескробних полисахарида изузев легуминоза које имају већи садржај целулоз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авичасто и лисна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толасто, коренасто и луковичас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заступљеније врсте поврћа у људској исхрани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мпир, шаргарепа, першун, лу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р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лавичасто и лисна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упус, кељ, карфиол, спанаћ, зеље, блитва, зелена сала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 изузетн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у калоријску,                    а високу хранљиву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ју изузетан значај у исхрани људи у неразвијеним подручјима (јефтин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вор биолошки вредних беланчеви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уљ, грашак, боранија, соја, кикирик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 које св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им плодом обавијају семе, нежне су структуре и најчешће се користе у свежем ста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0"/>
            <a:ext cx="914400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су присутн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 форми пек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о особинама и хранљивој вредности разликујемо воћ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водом, витаминима и минералним материјам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е је калоријске вредност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абук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крушке, брескве, кајсиј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шњ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шњ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цитрусно воће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лимун, помо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, мандарина, ананас и др.), малинасто воће (малине, купине, боровнице, рибизле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Воће богато маст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мастим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50%-углавном незасићене масне киселине)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посолубилним витаминима, минералним материј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е је калоријске вред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аси, лешник, бадем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к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нцокрета, бундеве и др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4. ГЉ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ећина намирница биљног порекла производи се сезонс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ако су богате водом постоји велика могућност кварења и микробиолошке контаминаци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0"/>
            <a:ext cx="91440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БИЉН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ЖИВОТИЊСК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Заштита намирница биљног порекла може би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ткороч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гороч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Краткоро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штита намирница биљног порек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дмах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берби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 и воће ставити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одговарајућу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алажу,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релативно брзо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нспортовати и потрош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може би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шењ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илизацијом у аутоклав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емијском конзервациј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ација  са шећ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авањ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топлом ваздух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количина влаге да остане 15-20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зервисан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не су најчешћ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убиле у садржају витамина 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фолата и тиамин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посебно ако су пре сушења изложене неком хемијском једињењу).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терилизацијом у ауток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кувају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бланширају), п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 у лименке и изложе топлом ваздуху у аутоклаву на 120 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1 ат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ф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Уобичајено се при овом типу конзервације рачуна на губитак хидросолубилних витамина од 20-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Хемијском конзерв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конзервишу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о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хемијских једињења (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о, сирћетна киселина, лимунстус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датком ових једињењ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пречава развој бактерија и гљив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Конзервација  са шећ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чешће конзервише воћ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то прављењем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мелада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мова, слат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комп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то је концентрација шећера мања то се мора додати неки од конзерван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83808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MIRNICE BILJNOG POREKLA</a:t>
            </a:r>
            <a:r>
              <a:rPr b="1" lang="sl-SI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Смрза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и прокувају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се брзо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оже температури од -35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ју на -20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убитак хранљиве вредности је минималан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су намирнице доброг квалитета и нису дуго стајале на вазду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Ову групу чине намирница богате беланчевинама високог квалитета и минералним материја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Најчешће групе ових намирница 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, РИБА, ЈАЈ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И ПРОИЗВ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И УЉ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Групе намирница биљеног порекла 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ГЉ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nl-NL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, РИБЕ, Ј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0"/>
            <a:ext cx="914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- порек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говеђе, јунеће, телеће, свињско, овчије, јагњеће, кокошије, ћуреће, пачије, гушч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ивљих животињ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дивљач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срнеће, дивље свиње, фазанско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учешће у исхр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представља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Оно учествује у исхран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,2% у неразвијеним земљам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ко 3% у зем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 у развој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5% развијеним земља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војство м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војство меса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(органолептичке особине, састав и присуство хранљивих материја у месу)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зависе 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врсте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рости и пола животи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чина припр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0-70% воде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ценат опада како расте проценат масти!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5-20% беланчевин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убраја у намирнице богате биолошки вредним беланчевинама, јер је однос аминокиселина приближан потребама човека-односи на миоалбумине и глобулин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-50% масти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неки масни делови свињског и јагњећег меса садрже до 70% масти; углавносм су то засићене масне кисел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И МЕСНЕ ПРАЂЕВИНЕ  - садржај м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меса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реће од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kcal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еће бело месо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кожице)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650 kcal (масно свињско месо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садржи и микронутрије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 који се добро искоришћавају и 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ералнe материје (K, F, Mg, Fe, Co, Cu, Z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тамине (B grupe, A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есо се мо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ти и обрађи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ађ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и смрзава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ш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ламур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с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ле клања, примарне обраде и хлађења на температури од 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до 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(тзв. расхлађено месо) месо се може корист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о си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кулинарску об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премати за пре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ирово мес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мож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1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рас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3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про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до -3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до 1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, жита или церeалије су зрели плодoви култивисаних биљакa у које спадa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Пирин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укуру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вас,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ранљива вредност меса остаје очувана ако је поступак замрзавања правилно изведен, а одмрзавање постепе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конзервир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гањем струјању ваздух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губитком воде се зауставља ферментација и деловање микроорганизам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ли топлом диму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65-80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ламур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третир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љу помешаном са нитритима, нитратима, полифосфатима, шећеро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сн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и у лименке које се излажу 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 и притиску од 1 атмосфере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чувати веома ду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на собној температури у сувој и проветреној просторији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ео рибе у исхрани људи у нашој земљи је ни 10 грама днев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ства и хемијске особине  зависе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ане 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лић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убатац, смуђ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сардела, бакалар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харинга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аран, лосо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олстолобик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0" y="0"/>
            <a:ext cx="9144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високо квалитетним беланчевинама 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– 16-23%)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од врсте рибе 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зак (до 4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 (до 10%) и то незасићених масних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представљају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не чине 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развијеним земљама до 7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емљема у развоју до 5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вијеним земљама до 3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 нашој земљи данас житарице чине до 50% исхр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је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висок (74-80%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нижи (до 7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ВОДИ - 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5 до 1%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 енергетска вредност зависи од садржаја масти и варира од 70 kcal за посне рибе до 230 kcal за масне ри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е су главн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извор Ј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а мање: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већи када се једу са костима)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a, Z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ибе садрже једин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 и 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бог високог садржаја воде,  беланчевина и незасићених масти рибе лако подлежу кваре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улову се морају брзо обрадити и сачувати на одговарајући нач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гу се чу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рзава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бљ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а се може чувати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5 д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до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нљива вредност меса остаје очувана ако је поступак замрзавања правилно изведен,                     а одмрзавање постепено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изла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) ил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л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C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ибљ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бе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 лимен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је се излаж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 и притиску од 1 atm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може чувати веома дуго, на собној температури у сувој и проветреној простор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јвећу вредност у исхрани људи имају кокошија јај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ти јаја (14%) су богат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сфолипид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а однос масних киселина је у корист полинезасиће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Садрже (са варијацијама у односу на врст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0% угљених хидрата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највише скроба и нешто моносахарида и влакан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-16% проте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-7% м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око 2% микронутр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та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0" y="0"/>
            <a:ext cx="914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 ок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енергетска вредност 100 g јај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 кома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износи 150-160 К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лађ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исана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нути мелан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аја у пра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аја се чувају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релативној влажности ваздуха до 90% и више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0"/>
            <a:ext cx="914400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зервисана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 се могу чуват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ној води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реча и воде (неколико месец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стаклу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натријум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ат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 парафину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мрзнути мелан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вај начин чувања подразумев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ње течних јаја, без љуске, хомогенизованих, пастеризованих, охлађених и стављених у одговарајућу амбалажу на – 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 до 12 месеци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у пра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Јаја у праху се добијај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хомогенизоване масе беланца и жуман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или посебно) у комори кроз коју пролази топао ваздух (60-7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третирана јаја мог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 12 месец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љавају се додавањем воде (1:2,5 делова во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исхрани људи уобичајено се под млеком подразумева кравље мле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емијски млеко је емулзија масти у воденом раствору протеина, лактозе и минералних материј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ко учествује у исхрани људ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развијеном свету са нешто преко 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земљама у развоју са око 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ијеном свету са преко 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став и нутритивна вредност млека зависи од вр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албумина, лактглобулина, имуноглобулина и албуми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вно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ума (протеини сурутке са имунолошким својствим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 (триглицерида, нешто фосфолипида, лецитина и холестерола, садржај незасићених масних киселина је низа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,6% дисахарид лактаз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100ml крављег млека је 67 Кc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скористљивост беланчевина из крављег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ека је потпу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се корист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без претходне обрад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јчешће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љушт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 ил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лев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ступак прераде најчешће мења хранљиву вредност и особине производа, а од степена издвајања директно зависи биолошка и дијететск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Подела млечних производа према начину термичке обра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стер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терил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таминизир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нден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Уништавају се само вегетативни облици микроорганизама. Добија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загревањем млек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63-65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C у трајању од 30 минут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нис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висо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2-76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15 до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краткотрајна пастеријазиј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Морају се чувати на 1-4</a:t>
            </a:r>
            <a:r>
              <a:rPr b="1" lang="fr-FR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, а пре употребе мора се прокувати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0"/>
            <a:ext cx="9144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мле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-12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р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40 минут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и начи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-15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о 2 секунде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ан амбалаже, хомогенизује и сипа у стерилисане судове (UHT стерилизација, краткотрајна стерилизациј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прерађено на овај начин има високу биолошку вредност и непромењена органолептичка својства, осим благе жуте боје.</a:t>
            </a:r>
            <a:r>
              <a:rPr b="0" lang="nl-NL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Витаминизир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у се додају витам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А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Кондензов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аравање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1/3 до ½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е са додавањем шећера или без њ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се чувати на температури до 10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Млеко у пра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до садржаја вод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-6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бити пуномасно (најмање 25% масти), полуобрано (12,5% масти) и обр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ност овог млека је 8 до 12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хидрација се обавља додатком во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на 1000 ml воде додаје се 125 g млек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И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Добија се специјалним технолошким поступком и боље се реконстрише од обичног мл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0" y="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МЛЕКО И МЛЕЧНИ ПРО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ферментиса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ј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ерментациј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јств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чнокиселински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лобађ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д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устављ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ст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г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тоген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билизован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оизвод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производи су освежавајућег укуса, лако се варе и имају широку примену у дијететиц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ју се на температури од 1 до 4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највише 5-7 дана.</a:t>
            </a:r>
            <a:r>
              <a:rPr b="1" lang="nl-NL" sz="3200" spc="-1" strike="noStrike">
                <a:solidFill>
                  <a:srgbClr val="ffffcc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роизводи од житарица су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јвише се корис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село мле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гу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ли кисело млечни произв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аслац или бутер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је производ добијен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бућкањем павлак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сирове или пастеризоване, и представља млечну маст уз одређен проценат једнако распоређене в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воде је највише 16%, а млечне масти до 8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авлака, маслац и друг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маслаца је 700-750 Кcal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/1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а висок садржај витамина А и нешто витамина D и 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У исхрани људи масти се користе као издвојена х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(видљиве маст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ела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истенциј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рек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конзистенциј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добијају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 животињских производа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чне (уља-добијају се из биља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порекл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животињског порек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биљног поре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животињског порек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у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ињска мас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ој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нина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асти биљног порек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: сунцокрета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бундеве, соје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(добијена поступком рафинације и топлог цеђењ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ен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ко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финације и хладног цеђењ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21:43:12Z</dcterms:created>
  <dc:creator>Maja</dc:creator>
  <dc:description/>
  <dc:language>en-US</dc:language>
  <cp:lastModifiedBy>Maja</cp:lastModifiedBy>
  <dcterms:modified xsi:type="dcterms:W3CDTF">2020-09-29T16:52:48Z</dcterms:modified>
  <cp:revision>82</cp:revision>
  <dc:subject/>
  <dc:title>Slide 1</dc:title>
</cp:coreProperties>
</file>